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D29-6DC4-460A-BC0A-978BBDD9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16C-78CE-4451-9DD5-9074ED26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C4D-7698-477B-AC80-56C1A4FD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408-82F9-4E58-B6DA-F19080CF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FDA-A181-4CA4-9917-9472968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C5F-5C95-41DF-9194-8631650E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DF2-57CA-4E1B-96A4-76023182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451-BA7B-44A7-881C-1B939C21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F98-D615-4BF3-B49D-FBD6B053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1DF-82EF-439A-A815-181BBCD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44E-434C-4642-ACF2-81EEF17B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ACD-7E51-4919-8DF0-1F1A0DD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3BE58-3EA6-4FF1-BD14-E4DCF35406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7434c" descr=""/>
          <p:cNvPicPr/>
          <p:nvPr/>
        </p:nvPicPr>
        <p:blipFill>
          <a:blip r:embed="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APOSA E O LE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13440" y="180000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inha a raposa sua cova bem fechada, e estava-se dentro gemendo, porque estava enfer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nards-06" descr=""/>
          <p:cNvPicPr/>
          <p:nvPr/>
        </p:nvPicPr>
        <p:blipFill>
          <a:blip r:embed=""/>
          <a:stretch/>
        </p:blipFill>
        <p:spPr>
          <a:xfrm>
            <a:off x="900000" y="1979640"/>
            <a:ext cx="360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egou a porta um Leão e perguntou-lhe como estava e que lhe abrisse , por que queria lamber, que tinha virtude na língua, e ele lambendo-a , logo havia de sa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ifs-leao1" descr=""/>
          <p:cNvPicPr/>
          <p:nvPr/>
        </p:nvPicPr>
        <p:blipFill>
          <a:blip r:embed=""/>
          <a:stretch/>
        </p:blipFill>
        <p:spPr>
          <a:xfrm>
            <a:off x="1260360" y="1800360"/>
            <a:ext cx="34196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pondeu a raposa de dentro:Não posso abrir, nem quero: creio que tem virtude sua língua, porém é tão má vizinhança as dos dentes, que tenho tanto medo e portanto quero antes sofrer-me com meu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nards-16" descr=""/>
          <p:cNvPicPr/>
          <p:nvPr/>
        </p:nvPicPr>
        <p:blipFill>
          <a:blip r:embed=""/>
          <a:stretch/>
        </p:blipFill>
        <p:spPr>
          <a:xfrm>
            <a:off x="720720" y="1800360"/>
            <a:ext cx="450072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Moral da História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stem atenção no que lhe oferecem como coisa boa, por que elas podem lhe custar muito mais caro do que você imag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18000" y="4140360"/>
            <a:ext cx="250344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9:50Z</dcterms:created>
  <dc:creator/>
  <dc:description/>
  <dc:language>en-US</dc:language>
  <cp:lastModifiedBy/>
  <dcterms:modified xsi:type="dcterms:W3CDTF">2010-11-25T22:59:19Z</dcterms:modified>
  <cp:revision>1</cp:revision>
  <dc:subject/>
  <dc:title/>
</cp:coreProperties>
</file>